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D19-51C8-46BC-A79E-EDDAFE1F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18E-6036-4589-A812-E0C7BEB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379-CD21-4739-8111-23705E91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550-74C6-4774-87B8-3723DAA4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89BA-E928-4F48-88C4-3371E65B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CAF-F229-486E-B8AE-FB6BEB2D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52B8-59CE-4341-9BBF-9EAA162D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6D4B-1406-4782-824B-A8A203E7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183C-8A4F-4F84-9A6A-556542B1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E886-5A94-4746-9444-BD601C2D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5FCB-655F-4C68-8921-3C874C68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C10-2945-46C1-8559-05D5C69E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5378-B869-4F44-8C7B-F1C4B27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0A3-1C23-4C01-B812-B7C05D4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BE4B-883D-47BE-A05B-3B4B52A9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37FE-08FB-4F36-A718-E24068E4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09A3-7678-4C81-AC3F-2D561F2B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CB1-D425-42DB-B7CE-CEE6AFDC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B15-655B-41A4-91F9-EA24CEC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4E0-9127-4FF7-9F52-11310C61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52A-0FB9-4628-AE2B-FA5507D5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463-DC7F-487F-AF3B-9A8173E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3A4-9D28-43D8-B347-AD8BA3F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4FB-2CCE-4031-9EC5-395688C2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FCE-5E0C-450A-B439-2F66B8CC4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3F1-291E-41A8-BAD7-9A6510C39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s.history.wisc.edu/hist102/photos/html/1144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ANSITION TO MODERN AMERICA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Roaring Twentie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s, like golf and baseball, became much more part of national popular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de was notable for obsessive interest in celebrities like Charles Lindbergh &amp; Gertrude Eder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 became an all-consuming topic of interest in popular enter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Flowering of the Art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enation from 20s’ mass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Exiled" American writers put U.S. in forefront of world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S. Eli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nest Heming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. Scott Fitzgera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rs like Sinclair Lewis and H.L. Mencken criticized flaws and contradictions of 1920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lem Renaissance: African Americans prominent in music, po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Rural Counterattack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Americans identified urban culture with Communism, crime, immor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ives attempted to force reform on the Americ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urge of bigo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a of r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Fear of Radicalism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9:  “Red Scar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egal roundups of innocent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ible deportation of al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 against “radicals,”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7: Sacco and Vanzetti exec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495520" y="457200"/>
          <a:ext cx="423540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5520" y="457200"/>
                    <a:ext cx="4235400" cy="582948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905120" y="808200"/>
          <a:ext cx="541008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08200"/>
                    <a:ext cx="5410080" cy="531648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rohibi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th Amendment gave federal government power to pass Volstead Act of 1920 that prohibited production, sale, or transport of alcoholic bever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ption of alcohol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ion resented in urban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legging became big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: 18th amendment rep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57560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"Ladies of Logan" sing hymns in front of bars in aid of the temperance mov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Temperance sing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280"/>
            <a:ext cx="76960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VDP_-prohibition-poster_ezr"/>
          <p:cNvPicPr/>
          <p:nvPr/>
        </p:nvPicPr>
        <p:blipFill>
          <a:blip r:embed="rId1"/>
          <a:stretch/>
        </p:blipFill>
        <p:spPr>
          <a:xfrm>
            <a:off x="2057400" y="152280"/>
            <a:ext cx="5097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prohibition_titanic"/>
          <p:cNvPicPr/>
          <p:nvPr/>
        </p:nvPicPr>
        <p:blipFill>
          <a:blip r:embed="rId1"/>
          <a:stretch/>
        </p:blipFill>
        <p:spPr>
          <a:xfrm>
            <a:off x="1959120" y="76320"/>
            <a:ext cx="53942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Second Industrial Revolu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developed the highest standard of living in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920s and the second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replaced ste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assembly introduc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n03406"/>
          <p:cNvPicPr/>
          <p:nvPr/>
        </p:nvPicPr>
        <p:blipFill>
          <a:blip r:embed="rId1"/>
          <a:stretch/>
        </p:blipFill>
        <p:spPr>
          <a:xfrm>
            <a:off x="2344680" y="0"/>
            <a:ext cx="50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prohibitioncorner"/>
          <p:cNvPicPr/>
          <p:nvPr/>
        </p:nvPicPr>
        <p:blipFill>
          <a:blip r:embed="rId1"/>
          <a:stretch/>
        </p:blipFill>
        <p:spPr>
          <a:xfrm>
            <a:off x="190440" y="762120"/>
            <a:ext cx="86486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drink_leads_to_divorce-550x841"/>
          <p:cNvPicPr/>
          <p:nvPr/>
        </p:nvPicPr>
        <p:blipFill>
          <a:blip r:embed="rId1"/>
          <a:stretch/>
        </p:blipFill>
        <p:spPr>
          <a:xfrm>
            <a:off x="2397240" y="76320"/>
            <a:ext cx="43844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failure_success_prohibition_cartoon-780x292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Ku Klux Kla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a N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5 silent movie glorified KK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5: Klan membership hit 5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k on urban culture, inhab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of traditional rural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n sought to win U.S. by persua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, internal corruption resulted in Klan’s virtual disappearance by 193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Immigration Restric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4: National Origins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,000 person quota on im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otas favored northern Europe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 immigrants exempted from qu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Fundamentalist Challeng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ism:  Stress on traditional Protestant orthodoxy, biblical liter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5: Scopes Trial discredited fundamentalism among intellect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ists” gained mainline chu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ists strengthened grassroots appeal in new chur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olitics of the 1920s 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party apparently 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wing of the Democratic party  emerged as the most powerful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Harding, Coolidge, and Hoover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presidents appealed to traditional American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ing scandals break after hi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idge represented America in his austerity and rec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ver represented the self-made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Republican Policie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o "normalcy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s ra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, income taxes c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ding c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idge blocked Congressional aid to farmers as unwarranted inter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-business 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Automobile Industry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 makers stimulated sales through model changes, adverti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 industry fostered other busi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s encouraged sub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0240" cy="66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Divided Democrat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4: Urban-rural split weakened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hift in political loy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gained more Congressional seats than Republicans after 19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Election of 1924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255" name="Picture 4" descr="DIVI7233TB2501"/>
          <p:cNvPicPr/>
          <p:nvPr/>
        </p:nvPicPr>
        <p:blipFill>
          <a:blip r:embed="rId1"/>
          <a:srcRect l="0" t="18652" r="0" b="0"/>
          <a:stretch/>
        </p:blipFill>
        <p:spPr>
          <a:xfrm>
            <a:off x="1143000" y="2514600"/>
            <a:ext cx="74296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Election of 1928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 Al Smith carried urban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or of New Y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Herbert Hoover won 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er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the campaign’s decisiv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DIVI7233554"/>
          <p:cNvPicPr/>
          <p:nvPr/>
        </p:nvPicPr>
        <p:blipFill>
          <a:blip r:embed="rId1"/>
          <a:stretch/>
        </p:blipFill>
        <p:spPr>
          <a:xfrm>
            <a:off x="2438280" y="685800"/>
            <a:ext cx="5229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Old and the New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historical view:  The Depression ended the spirit of the twen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historical view: The twenties laid the foundations of moder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atterns of Economic Growth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chnologies meant new industries: radio and motion p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managers replace dindividual entrepren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ions became the dominant business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and national brands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business weakened regionalism, brought uniformity to Amer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Glenwood Stove A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63" name="Picture 4" descr="DIVI7233538"/>
          <p:cNvPicPr/>
          <p:nvPr/>
        </p:nvPicPr>
        <p:blipFill>
          <a:blip r:embed="rId1"/>
          <a:stretch/>
        </p:blipFill>
        <p:spPr>
          <a:xfrm>
            <a:off x="3124080" y="1752480"/>
            <a:ext cx="35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Economic Weaknesse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poorly man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l displaced by petrol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faced decline in exports,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disparity between income of laborers, middle-class mana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class speculated with idle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ity Life in the Jazz Ag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increase in urban pop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yscrapers symbolized the new mass cul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ies of home, church, and school were absent in the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omen and the Family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going crusade for equ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ppers” sought individual fre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omen remained in domestic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y of adolesc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enaged children no longer needed to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lged their craving for exci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Flapper3"/>
          <p:cNvPicPr/>
          <p:nvPr/>
        </p:nvPicPr>
        <p:blipFill>
          <a:blip r:embed="rId1"/>
          <a:stretch/>
        </p:blipFill>
        <p:spPr>
          <a:xfrm>
            <a:off x="228600" y="3505320"/>
            <a:ext cx="3238560" cy="412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Flapper2"/>
          <p:cNvPicPr/>
          <p:nvPr/>
        </p:nvPicPr>
        <p:blipFill>
          <a:blip r:embed="rId2"/>
          <a:stretch/>
        </p:blipFill>
        <p:spPr>
          <a:xfrm>
            <a:off x="4308480" y="0"/>
            <a:ext cx="4835520" cy="5591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flappers"/>
          <p:cNvPicPr/>
          <p:nvPr/>
        </p:nvPicPr>
        <p:blipFill>
          <a:blip r:embed="rId3"/>
          <a:stretch/>
        </p:blipFill>
        <p:spPr>
          <a:xfrm>
            <a:off x="0" y="0"/>
            <a:ext cx="42051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35:08Z</dcterms:created>
  <dc:creator>Timothy Hall</dc:creator>
  <dc:description/>
  <cp:keywords/>
  <dc:language>en-US</dc:language>
  <cp:lastModifiedBy>Matthew Myers</cp:lastModifiedBy>
  <cp:lastPrinted>2012-09-21T06:17:17Z</cp:lastPrinted>
  <dcterms:modified xsi:type="dcterms:W3CDTF">2011-02-23T14:20:06Z</dcterms:modified>
  <cp:revision>11</cp:revision>
  <dc:subject/>
  <dc:title>CHAPTER 25 TRANSITION TO MODERN AMERICA</dc:title>
</cp:coreProperties>
</file>